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5232600"/>
            <a:ext cx="77724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403848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523260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523260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50236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4038480"/>
            <a:ext cx="250236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4038480"/>
            <a:ext cx="250236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5232600"/>
            <a:ext cx="250236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5232600"/>
            <a:ext cx="250236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5232600"/>
            <a:ext cx="250236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92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4038480"/>
            <a:ext cx="3792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4038480"/>
            <a:ext cx="3792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523260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92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403848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523260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403848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5232600"/>
            <a:ext cx="77724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5232600"/>
            <a:ext cx="77724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403848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523260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523260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50236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4038480"/>
            <a:ext cx="250236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4038480"/>
            <a:ext cx="250236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5232600"/>
            <a:ext cx="250236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5232600"/>
            <a:ext cx="250236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5232600"/>
            <a:ext cx="250236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92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4038480"/>
            <a:ext cx="3792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4038480"/>
            <a:ext cx="3792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523260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92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403848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523260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4038480"/>
            <a:ext cx="3792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5232600"/>
            <a:ext cx="77724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4038480"/>
            <a:ext cx="7772400" cy="22860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3"/>
          <p:cNvSpPr/>
          <p:nvPr/>
        </p:nvSpPr>
        <p:spPr>
          <a:xfrm>
            <a:off x="609480" y="15228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76320" y="6429240"/>
            <a:ext cx="44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hapter1 Introduction to RF and Wirel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Box 7"/>
          <p:cNvSpPr/>
          <p:nvPr/>
        </p:nvSpPr>
        <p:spPr>
          <a:xfrm>
            <a:off x="7696080" y="6400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CD73-EB64-4B03-828A-450CD990CB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2"/>
          <p:cNvSpPr/>
          <p:nvPr/>
        </p:nvSpPr>
        <p:spPr>
          <a:xfrm>
            <a:off x="152280" y="1752480"/>
            <a:ext cx="8839440" cy="4800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13"/>
          <p:cNvSpPr/>
          <p:nvPr/>
        </p:nvSpPr>
        <p:spPr>
          <a:xfrm>
            <a:off x="457200" y="380880"/>
            <a:ext cx="8305920" cy="1143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71600" y="274320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696080" y="6400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F183-0556-42D7-B91B-1DC102A32C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pter 1  Introduction to RF and Wireless 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9680" y="2971440"/>
            <a:ext cx="556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1  A Wireless Wor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2  RF Design is Challen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3  The Big Pi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hzad Razavi,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F Microelectron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5334120" y="64771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epared by Bo Wen, UC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ferences (Ⅱ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apter Out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152280" y="1371600"/>
            <a:ext cx="2743200" cy="762120"/>
            <a:chOff x="152280" y="1371600"/>
            <a:chExt cx="2743200" cy="762120"/>
          </a:xfrm>
        </p:grpSpPr>
        <p:sp>
          <p:nvSpPr>
            <p:cNvPr id="88" name="Rounded Rectangle 9"/>
            <p:cNvSpPr/>
            <p:nvPr/>
          </p:nvSpPr>
          <p:spPr>
            <a:xfrm>
              <a:off x="152280" y="1371600"/>
              <a:ext cx="274320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Box 8"/>
            <p:cNvSpPr/>
            <p:nvPr/>
          </p:nvSpPr>
          <p:spPr>
            <a:xfrm>
              <a:off x="555480" y="1447560"/>
              <a:ext cx="22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 Wireless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3"/>
          <p:cNvGrpSpPr/>
          <p:nvPr/>
        </p:nvGrpSpPr>
        <p:grpSpPr>
          <a:xfrm>
            <a:off x="3597120" y="1600200"/>
            <a:ext cx="2867400" cy="762120"/>
            <a:chOff x="3597120" y="1600200"/>
            <a:chExt cx="2867400" cy="762120"/>
          </a:xfrm>
        </p:grpSpPr>
        <p:sp>
          <p:nvSpPr>
            <p:cNvPr id="91" name="Rounded Rectangle 9"/>
            <p:cNvSpPr/>
            <p:nvPr/>
          </p:nvSpPr>
          <p:spPr>
            <a:xfrm>
              <a:off x="3643560" y="1600200"/>
              <a:ext cx="2742120" cy="76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Box 11"/>
            <p:cNvSpPr/>
            <p:nvPr/>
          </p:nvSpPr>
          <p:spPr>
            <a:xfrm>
              <a:off x="3597120" y="1676160"/>
              <a:ext cx="286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F Design Challen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6781680" y="1806480"/>
            <a:ext cx="2286000" cy="779760"/>
            <a:chOff x="6781680" y="1806480"/>
            <a:chExt cx="2286000" cy="779760"/>
          </a:xfrm>
        </p:grpSpPr>
        <p:sp>
          <p:nvSpPr>
            <p:cNvPr id="94" name="Rounded Rectangle 9"/>
            <p:cNvSpPr/>
            <p:nvPr/>
          </p:nvSpPr>
          <p:spPr>
            <a:xfrm>
              <a:off x="6781680" y="1806480"/>
              <a:ext cx="2286000" cy="76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Box 14"/>
            <p:cNvSpPr/>
            <p:nvPr/>
          </p:nvSpPr>
          <p:spPr>
            <a:xfrm>
              <a:off x="6985800" y="1882440"/>
              <a:ext cx="190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g Picture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F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右箭头 15"/>
          <p:cNvSpPr/>
          <p:nvPr/>
        </p:nvSpPr>
        <p:spPr>
          <a:xfrm>
            <a:off x="3124080" y="1676520"/>
            <a:ext cx="30492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右箭头 16"/>
          <p:cNvSpPr/>
          <p:nvPr/>
        </p:nvSpPr>
        <p:spPr>
          <a:xfrm>
            <a:off x="6477120" y="1981080"/>
            <a:ext cx="30456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0" y="2286000"/>
            <a:ext cx="3505320" cy="916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reless Commun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end in R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3429000" y="2514600"/>
            <a:ext cx="3124080" cy="14655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ultitude of Discip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F Trade-of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mand for cost and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6477120" y="2819520"/>
            <a:ext cx="2666880" cy="368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X and 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Wireless Wor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6858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igh-speed wireless links (WiFi, Bluetooth) allow seamless connections among device and applian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1112760" y="1098720"/>
            <a:ext cx="71168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xplosive Growth of Wireless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affordability of low cost and multiple functions finds its roots i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of RF circuits has also improv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"/>
          <p:cNvPicPr/>
          <p:nvPr/>
        </p:nvPicPr>
        <p:blipFill>
          <a:blip r:embed="rId1"/>
          <a:stretch/>
        </p:blipFill>
        <p:spPr>
          <a:xfrm>
            <a:off x="0" y="1428840"/>
            <a:ext cx="5105520" cy="3295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2"/>
          <a:stretch/>
        </p:blipFill>
        <p:spPr>
          <a:xfrm>
            <a:off x="4724280" y="1503360"/>
            <a:ext cx="426744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F Design is Challenging: Multi-discip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5638680"/>
            <a:ext cx="9144000" cy="4572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design draws upon a multitude of discipli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1295280" y="1679400"/>
            <a:ext cx="62485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F Design is Challenging: Trade-of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5029200"/>
            <a:ext cx="9144000" cy="8380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circuits and transceivers must deal with numerous trade-off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 for higher performance, lower cost and greater functi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2557440" y="2286000"/>
            <a:ext cx="35384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Big Picture: RF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14340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3"/>
          <p:cNvGrpSpPr/>
          <p:nvPr/>
        </p:nvGrpSpPr>
        <p:grpSpPr>
          <a:xfrm>
            <a:off x="769680" y="1425600"/>
            <a:ext cx="2994120" cy="703800"/>
            <a:chOff x="769680" y="1425600"/>
            <a:chExt cx="2994120" cy="703800"/>
          </a:xfrm>
        </p:grpSpPr>
        <p:sp>
          <p:nvSpPr>
            <p:cNvPr id="117" name="Rounded Rectangle 9"/>
            <p:cNvSpPr/>
            <p:nvPr/>
          </p:nvSpPr>
          <p:spPr>
            <a:xfrm>
              <a:off x="812160" y="1425600"/>
              <a:ext cx="2876040" cy="68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Box 9"/>
            <p:cNvSpPr/>
            <p:nvPr/>
          </p:nvSpPr>
          <p:spPr>
            <a:xfrm>
              <a:off x="769680" y="1425600"/>
              <a:ext cx="299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X: Drive antenna wi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igh power 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3"/>
          <p:cNvGrpSpPr/>
          <p:nvPr/>
        </p:nvGrpSpPr>
        <p:grpSpPr>
          <a:xfrm>
            <a:off x="4838040" y="1425600"/>
            <a:ext cx="3058200" cy="703800"/>
            <a:chOff x="4838040" y="1425600"/>
            <a:chExt cx="3058200" cy="703800"/>
          </a:xfrm>
        </p:grpSpPr>
        <p:sp>
          <p:nvSpPr>
            <p:cNvPr id="120" name="Rounded Rectangle 9"/>
            <p:cNvSpPr/>
            <p:nvPr/>
          </p:nvSpPr>
          <p:spPr>
            <a:xfrm>
              <a:off x="4845240" y="1425600"/>
              <a:ext cx="3051000" cy="68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Box 15"/>
            <p:cNvSpPr/>
            <p:nvPr/>
          </p:nvSpPr>
          <p:spPr>
            <a:xfrm>
              <a:off x="4838040" y="1425600"/>
              <a:ext cx="304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X: Sense small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amplify with low noi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Big Picture: Generic RF Transcei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182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0" y="4952880"/>
            <a:ext cx="9144000" cy="6858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 are upconverted/downconverted at TX/RX, by an oscillator controlled by a Frequency Synthes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ferences (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0" y="946080"/>
            <a:ext cx="9144000" cy="1949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en Bo</dc:creator>
  <dc:description/>
  <dc:language>en-US</dc:language>
  <cp:lastModifiedBy>Bo Wen</cp:lastModifiedBy>
  <dcterms:modified xsi:type="dcterms:W3CDTF">2011-10-20T19:15:41Z</dcterms:modified>
  <cp:revision>819</cp:revision>
  <dc:subject/>
  <dc:title>PowerPoint Presentation</dc:title>
</cp:coreProperties>
</file>